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69D-7FAC-4859-B577-A54C0C6A72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D792-7F76-49A0-8531-75EB7494AD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A5C-E8E4-4CEC-8F18-EFFBBF1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561-AA6A-4100-BAC8-089F1AD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E42-49C9-4982-93B5-66F17A42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FEC-843C-4690-9017-76EFC419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BE6-C0FF-4BD2-AE56-119678C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EB2-6F20-45DC-A8F2-ED569C4C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369-CB89-44D0-83C4-B2DCD38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CD8-183C-4082-B17F-2E062A41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4AA-75B8-423C-81C4-26235B2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3C9-E1AF-425F-8528-FD0FD0A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833-0AF0-469C-998B-F8282E3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209-DE77-4E26-A3A9-2F23460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E9DB-A6C8-407A-B158-EA13C9E77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7320" y="714240"/>
            <a:ext cx="5600520" cy="21434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Урок развития речи в 7 классе</a:t>
            </a:r>
            <a:br>
              <a:rPr sz="2400"/>
            </a:b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Сжатое изложение по тексту                       З. Салтыковой «Русла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Учитель рус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МОУ Сампурской СО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Сампурского рай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Тамб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Осипова Нина Владими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Изложение\90-3.jpg"/>
          <p:cNvPicPr/>
          <p:nvPr/>
        </p:nvPicPr>
        <p:blipFill>
          <a:blip r:embed="rId1"/>
          <a:stretch/>
        </p:blipFill>
        <p:spPr>
          <a:xfrm>
            <a:off x="500040" y="214200"/>
            <a:ext cx="178596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ADMIN\Рабочий стол\Изложение\saintbernard.jpg"/>
          <p:cNvPicPr/>
          <p:nvPr/>
        </p:nvPicPr>
        <p:blipFill>
          <a:blip r:embed="rId2"/>
          <a:stretch/>
        </p:blipFill>
        <p:spPr>
          <a:xfrm>
            <a:off x="7215120" y="457200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3214440" cy="78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28840" y="1928520"/>
            <a:ext cx="6929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ейс – путь между начальным и конечным пунктами, движение транспортных средств по определенному маршру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изерный (паек) -  маленький, ничтож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Антрацит – лучший сорт каменного уг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егодовать – чувствовать возмущение, крайнее недоволь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Физиономия – лиц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\Рабочий стол\Изложение\90-3.jpg"/>
          <p:cNvPicPr/>
          <p:nvPr/>
        </p:nvPicPr>
        <p:blipFill>
          <a:blip r:embed="rId1"/>
          <a:stretch/>
        </p:blipFill>
        <p:spPr>
          <a:xfrm>
            <a:off x="6643800" y="35712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Изложение\saintbernard.jpg"/>
          <p:cNvPicPr/>
          <p:nvPr/>
        </p:nvPicPr>
        <p:blipFill>
          <a:blip r:embed="rId2"/>
          <a:stretch/>
        </p:blipFill>
        <p:spPr>
          <a:xfrm>
            <a:off x="428760" y="285840"/>
            <a:ext cx="1785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86040" y="642600"/>
            <a:ext cx="3500640" cy="1071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бота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28800" y="2071800"/>
            <a:ext cx="757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К какому стилю и жанру относится текс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то вы узнали о Руслан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Как Руслан оказался в порту? За чем наблюдал он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Зачем Руслан схватил вязанку? Что он будет с ней делат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Как к этому отнеслись моря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то сделал Руслан, получив свою порцию ед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О чем говорит поступок Руслан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Как Людмила Васильевна поймет, что борщ не украден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ем закончился рассказ об удивительной собак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Понравился ли рассказ? Что нового вы узнали для себя? Как можно озаглавить текст вашего изложени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Рабочий стол\Изложение\saintbernard.jpg"/>
          <p:cNvPicPr/>
          <p:nvPr/>
        </p:nvPicPr>
        <p:blipFill>
          <a:blip r:embed="rId1"/>
          <a:stretch/>
        </p:blipFill>
        <p:spPr>
          <a:xfrm>
            <a:off x="6929280" y="214200"/>
            <a:ext cx="164340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ADMIN\Рабочий стол\Изложение\90-3.jpg"/>
          <p:cNvPicPr/>
          <p:nvPr/>
        </p:nvPicPr>
        <p:blipFill>
          <a:blip r:embed="rId2"/>
          <a:stretch/>
        </p:blipFill>
        <p:spPr>
          <a:xfrm>
            <a:off x="500040" y="214200"/>
            <a:ext cx="1785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1520" y="428760"/>
            <a:ext cx="3500280" cy="107136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лан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28480" y="2000160"/>
            <a:ext cx="5143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1)Необычный пода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2) Куда исчез Русла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3) Собака-грузч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4) В домике под красной черепиц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5) Обыкновенное чу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\Рабочий стол\Изложение\saintbernard.jpg"/>
          <p:cNvPicPr/>
          <p:nvPr/>
        </p:nvPicPr>
        <p:blipFill>
          <a:blip r:embed="rId1"/>
          <a:stretch/>
        </p:blipFill>
        <p:spPr>
          <a:xfrm>
            <a:off x="6786720" y="442908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ADMIN\Рабочий стол\Изложение\90-3.jpg"/>
          <p:cNvPicPr/>
          <p:nvPr/>
        </p:nvPicPr>
        <p:blipFill>
          <a:blip r:embed="rId2"/>
          <a:stretch/>
        </p:blipFill>
        <p:spPr>
          <a:xfrm>
            <a:off x="500040" y="214200"/>
            <a:ext cx="1785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85720" y="142920"/>
            <a:ext cx="4357800" cy="3571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ерный друг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43040" y="571680"/>
            <a:ext cx="7043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Каждый раз встречала на пристани пароход Людмила Васильевна, жена капитана. Когда-то ее муж, капитан торгового судна Сибирин, привез ей в подарок щенка сенбернара, которого назвали Руслан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Щенок превратился в великолепного сильного пса, беззаветно преданного хозяй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Капитан ушел в очередной рейс и больше не вернулся. Людмила Васильевна осталась совсем одна. Она как-то ослабела и превратилась в сухонькую старушку, одинокую и беспомощну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Руслан, огромный пес, поражавший своим умом, сам ходил на рынок за антрацитом, относил записки соседям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Шел тяжелый , голодный 1921 год. Рынки пустовали. Многие жили на мизерный паек, а Людмила Васильевна и того не имела. Соседи, жалея старушку, приносили ей кое-что из еды, Руслану давали обмывки с тарелок. Собака голод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Однажды Руслан не вернулся домой. Он прибежал в порт и долго смотрел на моряков, работавших на погрузке, потом схватил пакет и понес его в трюм, затем второй, третий. Прекратившие работу матросы смотрели на собаку с изумлени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Целый день проработал Руслан и получил котелок густого краснофлотского борща с сахарными  косточками. Стараясь не расплескать содержимое котелка, Руслан медленно пошел с приста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Придя домой, он поставил котелок перед хозяйкой, дремавшей в кресле. Моряки, вошедшие вслед за Русланом, рассказали ей обо вс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Каждый день ходил Руслан на работу в порт, а матросы приносили в дом старой женщине, вдове капитана Сибирина, два котелка: один с большой костью, а другой – старательно прикрытый бумаг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Так Руслан Сибирин, как значилось в ведомости, был принят на довольствие одного из военных кора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ADMIN\Рабочий стол\Изложение\saintbernard.jpg"/>
          <p:cNvPicPr/>
          <p:nvPr/>
        </p:nvPicPr>
        <p:blipFill>
          <a:blip r:embed="rId1"/>
          <a:stretch/>
        </p:blipFill>
        <p:spPr>
          <a:xfrm>
            <a:off x="285840" y="28584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Информацио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600" y="1571760"/>
            <a:ext cx="6357960" cy="2928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9694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вченков П. Ф. Обучающие изложения: 5-9 кл.: Пособие для учителя. – 2-е изд. –   М. : Просвещение, 19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ADMIN\Рабочий стол\Изложение\saintbernard.jpg"/>
          <p:cNvPicPr/>
          <p:nvPr/>
        </p:nvPicPr>
        <p:blipFill>
          <a:blip r:embed="rId1"/>
          <a:stretch/>
        </p:blipFill>
        <p:spPr>
          <a:xfrm>
            <a:off x="6929280" y="4857840"/>
            <a:ext cx="2000520" cy="185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ADMIN\Рабочий стол\Изложение\90-3.jpg"/>
          <p:cNvPicPr/>
          <p:nvPr/>
        </p:nvPicPr>
        <p:blipFill>
          <a:blip r:embed="rId2"/>
          <a:stretch/>
        </p:blipFill>
        <p:spPr>
          <a:xfrm>
            <a:off x="500040" y="142920"/>
            <a:ext cx="1643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4:56:41Z</dcterms:created>
  <dc:creator>Admin</dc:creator>
  <dc:description/>
  <dc:language>en-US</dc:language>
  <cp:lastModifiedBy>Admin</cp:lastModifiedBy>
  <dcterms:modified xsi:type="dcterms:W3CDTF">2010-12-19T20:06:38Z</dcterms:modified>
  <cp:revision>16</cp:revision>
  <dc:subject/>
  <dc:title>Слайд 1</dc:title>
</cp:coreProperties>
</file>